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1EC-EF8D-40BE-B600-7883A3C5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5B7-77D8-4053-A0C2-39B520F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24A-44E2-4A6B-80E1-6B4823E2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EFF-0178-495D-8A8B-29683F62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EDA1-E086-4C1B-AE82-3DD4F91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459-0E0A-40C3-80A9-7CD50BD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63D-246F-402D-A131-19069BC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76F5-8D76-46F3-921A-8C92D9D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82D6-625A-426D-B059-CC13237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9BEC-47EF-4815-BC98-62EBB9D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3168-A011-4CEA-8079-32EF0B1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095-0D8E-4284-A5C8-96CF090E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D32B-AAA2-40ED-97C6-7525C70F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840-9E62-4321-95D7-7F13CBF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F9FC-A85C-4AD0-BCC0-408E97E7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4F0-E75F-4D3B-AEC4-696AC215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BF37-AC67-4DF0-839D-0B5FDBDF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A87-560B-4B06-9BC2-53374E8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B64-FB58-40FE-BCEF-9372B09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B3D-C02A-4BDC-9D85-FADEF4B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C57-332C-4CE4-BCA6-256516D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C67-1FE0-4DB3-A4EF-C01A996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634-A9A3-43B0-8922-9782D07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1F9-FCE7-4C6D-89AE-422E58D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CCB-A97F-4454-BC36-70A04F40267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DEF-390F-4DEC-B77F-A328738A1A7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ADVERBI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REPOSICIONE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CONJ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 ADVERB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 in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 una circunstancia del ver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e complementar a otro adverbio o a un adjetiv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núcleo de un sintagma adverb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dos o más palabras funcionan de adverbio son LOCUCIONES ADVERB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CLASES </a:t>
            </a:r>
            <a:br>
              <a:rPr sz="26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DE ADVERBIOS  Y LOCUCIONES ADVERBIALE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graphicFrame>
        <p:nvGraphicFramePr>
          <p:cNvPr id="93" name=""/>
          <p:cNvGraphicFramePr/>
          <p:nvPr/>
        </p:nvGraphicFramePr>
        <p:xfrm>
          <a:off x="685800" y="1573200"/>
          <a:ext cx="7772400" cy="4867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r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uciones adverb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g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í, allí, ahí, allá, acá, arriba, abajo, cerca, lejos, delante, detrás, encima, debajo, enfrente, atrá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final, a la cabeza, a la derecha, a la izquierda, al otro lad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s, después, pronto, tarde, temprano, todavía, aún, ya, ayer, hoy, mañana, siempre, nunca, jamás, próximamente, prontamente, anoche, enseguida, ahora, mientras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repente, de pronto, a menudo, al amanecer, al anochecer, en un periquete, con frecuencia, de tanto en tanto, a última hora, de vez en cuando, por la noche, por la mañana, por la tard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, mal, regular, despacio, deprisa, así, aprisa, como, adrede, peor, mejor, fielmente, estupendamente, fácil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abiendas, a tontas y a locas, a oscuras, sin más ni más, en resumen, a la buena de Dios, a ciegas, a la chita callando, de este modo, a las buenas, a las malas, por las buenas, por las malas, a manos llenas, de alguna manera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, mucho, bastante, más, menos, algo, demasiado, casi, sólo, solamente, tan, tanto, todo, nada, aproximad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menos, con todo, más o menos, todo lo más, como máximo, como míni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i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í, también, cierto, ciertamente, efectivamente, claro, verdade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de luego, en verdad, en efecto, sin duda, sin ninguna duda, en realidad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, jamás, nunca, tampoc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ninguna manera, ni por ésas, ni mucho menos, ni por asomo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zá, quizás, acaso, probablemente, posiblemente, segurament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 vez, a lo mejor, puede que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58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ADVERBIO/ ADJETIVO </a:t>
            </a:r>
            <a:br>
              <a:rPr sz="5100"/>
            </a:b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en –mente, derivados de un adjetivo calific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Libre        libre</a:t>
            </a: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m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jetivos calificativos convertidos en adver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Habla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al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47052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dverbios de cantidad iguales a adjetivos determinativos o pronombres indefin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35720" indent="-39780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 siento </a:t>
            </a:r>
            <a:r>
              <a:rPr b="0" lang="es-ES" sz="3100" spc="-1" strike="noStrike">
                <a:solidFill>
                  <a:srgbClr val="cc9900"/>
                </a:solidFill>
                <a:latin typeface="Arial"/>
              </a:rPr>
              <a:t>much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1:45:46Z</dcterms:modified>
  <cp:revision>4</cp:revision>
  <dc:subject/>
  <dc:title>TEMA 7</dc:title>
</cp:coreProperties>
</file>